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EE42-A155-4B46-BFB7-650CBC868AB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1A66-B327-496E-A2A6-3A67A58D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43F63-8099-46C7-B5EA-39985375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32BF-C62B-4E8B-845A-256D8E52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261F7-6EB1-45F2-A3F4-E382D018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11F86-6453-4F06-923A-25C0F6BD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37AE5-9FD4-4945-91B7-9292A909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0B0D5-9A6B-4BD7-A4BE-B49BC771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D2AFD-F701-4FED-B85D-0747D1CD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F5038-898F-41BC-8F4C-B9288BB1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37E05-570F-4F13-B315-91FC83A1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1FA6F-F78B-4E9D-9E9F-B7B9489A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6263C-B720-46D9-AAD5-2500B676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F3EA5-CB6F-427A-9A0C-6471AF90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A9B0E-ABAB-42E2-B00D-0D4AD5E2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21F87-3E88-4984-BE02-E6A74C7F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E0C94-8ED3-49C4-8729-838284CE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1E5DC-DF1D-4416-B5A2-9CBB08AF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DD6B24-9CCB-43B8-AF94-45224552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676D55-B4E7-410A-BE1D-CF0D8F8D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5E8803-F1C3-4B19-B18D-5F866C01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9F2A93-EC70-4382-A209-1637A9F6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5C77E1-AD1D-45D2-B9C1-632F3A21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6573-D808-446B-9F74-BD4D8909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4F80AF-2049-4CEA-9614-3EF40AF5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B118CE-EA00-4AE3-9B27-99CF8C54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1C3540-E17E-48D8-B396-3D3ECCBC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C74067-5601-4B68-BBD3-6F247E4B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D71F47-FCE4-46D0-866A-1ED74DBB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D9DDFF-568C-4D21-A0D2-61C2E12C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6A51FB-4F98-4E0F-8010-7C7FDF22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4290-6050-43EB-BACD-99C6BC48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006FD-1981-4ABB-BCF5-9529B0CA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5E20-1121-4ABD-B7F9-30629022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BD78D-08BF-4993-896A-6EA94573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EA85-7B1A-4E43-9F73-45FAF8DD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87740-E9D0-404C-80D9-0E42A643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86CC-DDA5-4427-A7D4-E0AE61615732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E2A4-E9DF-47B1-A160-D50B5D3F5439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9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1521-1EBF-44E0-B051-0D20A3837F48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C6D8-6A7C-408C-B539-98FA898EEEB9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9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1A78-A141-4ED3-ABA6-23C3F9A3367B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B274-0355-4C7B-A4D3-CFCE1EB4D17C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9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chase of Container Wago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4280" y="6093000"/>
            <a:ext cx="2654280" cy="461880"/>
            <a:chOff x="134280" y="6093000"/>
            <a:chExt cx="265428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400" y="6308640"/>
              <a:ext cx="26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_2015-01-20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4280" y="6093000"/>
              <a:ext cx="102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cument title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31F3-E6BE-4FE9-AB65-3DEB6F63363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20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B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9E16-1878-4939-8C81-A045113B6905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Textfeld 5"/>
          <p:cNvSpPr/>
          <p:nvPr/>
        </p:nvSpPr>
        <p:spPr>
          <a:xfrm rot="20397600">
            <a:off x="64339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22320" y="2255760"/>
            <a:ext cx="98838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view of results and comment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ther essential aspect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pects intentionally left out of the analysis, the impact of which is as follows: (…)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y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 present value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reak-even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years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year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positive value:  revenue,    negative values: 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break-even:   number of years until the alternative option becomes advantageou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annuity:  average annual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8E87-C0FD-4CC3-9F62-BC84A602FC8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Performance Indicator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ponsible Departmen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ntenance documentation 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a Origi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ariation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alternative option to basic op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y Performance Indicato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leage between reprofiling wheel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0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2D5D-EF35-4345-95CB-EC915769C80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7" name="Textfeld 1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fit-and-loss chart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Delta of variant “B” in relation to variant “A” [= zero lin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6496-1DBE-4D8C-8A35-204CF802BB9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1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3" name="Picture 303" descr=""/>
          <p:cNvPicPr/>
          <p:nvPr/>
        </p:nvPicPr>
        <p:blipFill>
          <a:blip r:embed="rId1"/>
          <a:stretch/>
        </p:blipFill>
        <p:spPr>
          <a:xfrm>
            <a:off x="878040" y="1446120"/>
            <a:ext cx="8132760" cy="5189760"/>
          </a:xfrm>
          <a:prstGeom prst="rect">
            <a:avLst/>
          </a:prstGeom>
          <a:ln w="0">
            <a:noFill/>
          </a:ln>
        </p:spPr>
      </p:pic>
      <p:sp>
        <p:nvSpPr>
          <p:cNvPr id="354" name="Textfeld 4"/>
          <p:cNvSpPr/>
          <p:nvPr/>
        </p:nvSpPr>
        <p:spPr>
          <a:xfrm rot="20397600">
            <a:off x="62053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reak-even char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0716-E4BA-4280-A655-CF548408D63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Textfeld 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649440" y="1447920"/>
            <a:ext cx="859788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is recommended to purchase the container wagon made by company B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lected Option / Recommend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cause of the radial adjustability of the wheelsets, the wear rate of the wheels is lower and the lifetime of the wheels and the reprofiling cycle are therefore considerably lo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e to the higher quality of the container locks, maintenance expenditure is lower compared with the container wagon made by company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planatory Statement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eak-even:     13 year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verage Annual Savings     (Delta Annuity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rify financial optio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econdition for Implement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a purchase time schedule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tain approval from financial controlling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rther Procedure        Target Date / Responsibiliti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A330-1391-4162-91D3-558EA7EBB57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0" name="Textfeld 1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roval 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73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Compiled by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74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Traceability of implementati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75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76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9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0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1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82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5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6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7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8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2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93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alidated by client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94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95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9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0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401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6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7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8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9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0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1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2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3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14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1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CADD-C82D-47D0-8BC1-E637276F640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6" name="Textfeld 49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rchase of 85 new container flat wagons, each carrying 60’ in total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operator’s quality gate (filter) has been applied, only the container flat wagons of the two companies A and B remai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ent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onsible for the LCC calculation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s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/09/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ishe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/01/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Life Cycle Costs of both remaining wagons are to be calculat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Client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arting 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tas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iginator of the LCC calculation, dat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7320" y="6419880"/>
            <a:ext cx="494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ed,  A = Agreed  D = Decided,  P = Preconditions in place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c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D          P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E326-9767-4224-8B62-E4DBCF4EF21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 Framework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t relevant / relevant, but not part of the 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tained in the 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termined on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y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7004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7004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container locking 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5448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 replacement of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5448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single Sgns-type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53040" y="41162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76520" y="40766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-type 380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of other parts of the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consumption while operat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 access charg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ading / unload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speed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79C9-8BAB-4FA1-858B-FA57CFCF859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3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 Breakdown Structure / System Environment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ssis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unted par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carriag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else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872800" y="4218840"/>
            <a:ext cx="179604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872800" y="5515920"/>
            <a:ext cx="181512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436D-C0DC-4A93-A411-438EE15860F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20"/>
          <p:cNvSpPr/>
          <p:nvPr/>
        </p:nvSpPr>
        <p:spPr>
          <a:xfrm rot="20397600">
            <a:off x="628164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61468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. Oper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703600" y="1944720"/>
            <a:ext cx="2178000" cy="41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1 Energ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2 Staf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3 Clean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4 Making availab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 Insurance / 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t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6 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 Infrastructure us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e segmen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bl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track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ipment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504180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I. Maintenan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7472520" y="1484280"/>
            <a:ext cx="233820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V. Product Failu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7548480" y="1936800"/>
            <a:ext cx="214812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n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1  Product 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3  Malfunc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plann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1  Produc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3  Malfun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00160" y="1496880"/>
            <a:ext cx="2315880" cy="468180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chase 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316080" y="1949400"/>
            <a:ext cx="2116080" cy="41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One-off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Recurrent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assembly 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ommissioning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116680" y="1936800"/>
            <a:ext cx="212868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0 “One-off” prepar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ection / Diagnostic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4 Condition-bas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7 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system for vehicl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CC cost blocks used for the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49400" y="6194520"/>
            <a:ext cx="651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)  For simplicity’s sake, the term “purchase” also comprises residual costs as well as disposal / further utilisation.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72880" y="2998800"/>
            <a:ext cx="218304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5097600" y="4092480"/>
            <a:ext cx="2182680" cy="37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5089680" y="31590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1AD6-EAB6-4DC0-9C34-0F043754896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Textfeld 15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urpose &amp; brief description of each op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reduced maintenance expenditure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well-known characteristics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ared to the existing wagon type, both the lifetime of the wheels and the reprofiling cycle are extended. The reliability of container lockings will be significantly improve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lower investment cost may result in maintenance expenditure being the same as today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3B09-1551-4CCC-9944-30B18E303E8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Textfeld 11"/>
          <p:cNvSpPr/>
          <p:nvPr/>
        </p:nvSpPr>
        <p:spPr>
          <a:xfrm rot="20397600">
            <a:off x="48337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nts: list of principal difference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est rate:                 10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 rate:                   3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fe span of wagon:      25 year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nual mileage:          115,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nings are fixed and equivalent for both options. For this reason only the cost structure of the two options will be compar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marks concerning general assumptions for all options, comments and critical factor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wheelse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running gear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container loc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vance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container locks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3036-BB8F-48E5-BDB5-B26C51FE6E7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Textfeld 20"/>
          <p:cNvSpPr/>
          <p:nvPr/>
        </p:nvSpPr>
        <p:spPr>
          <a:xfrm rot="20397600">
            <a:off x="55195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osition of Cost and Cycle Dat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st 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,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,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92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container lock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18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9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rrective maintenance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profiling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7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2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21AB-4AD4-4214-9359-9D4D0B038735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2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0033-9351-4E3C-A70D-0E92FC2ED7B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Textfeld 4"/>
          <p:cNvSpPr/>
          <p:nvPr/>
        </p:nvSpPr>
        <p:spPr>
          <a:xfrm rot="20397600">
            <a:off x="59767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1"/>
          <a:stretch/>
        </p:blipFill>
        <p:spPr>
          <a:xfrm>
            <a:off x="22320" y="2252520"/>
            <a:ext cx="987876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3T13:14:47Z</dcterms:modified>
  <cp:revision>83</cp:revision>
  <dc:subject/>
  <dc:title>Slide 0</dc:title>
</cp:coreProperties>
</file>